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5F4-3A8A-40C9-BCAE-98CBAF95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A7B-90B0-40B9-86D8-C6CEFBEE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AA214-622C-4602-A0D9-BF8D8CF3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A90C1-3443-4A83-8E5D-E5C4C009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A2F07-D848-49E6-8CCE-5DF16EA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4BBA4-A2BD-4D6A-9D86-10BB0C3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9B0E-9C29-420B-BBAB-3C81546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811C7-6939-48AF-9F14-42F723C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9E3DA-2B87-44A2-8B6B-BB6F7FC7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2B93E-F15A-484C-92EF-AB9407AD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22D7-D050-456E-9986-8BCF458D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10090-0108-411C-93BF-2149331C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EE7-FB29-4B96-BC08-D7DB970E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73526-2726-4BE9-ACB6-8343F9C5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29EFA-76A6-440A-A16B-BBA00752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FD41A-65EB-4DA4-BD1B-5AC96DD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E65E7-FB2A-4CCB-8B17-052CA08C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6B8B9-0954-46DB-A3B6-9AE676A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6B0F1-2DEF-40CF-B827-51EABF98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1DFB6-A5AC-452B-9EB0-A4E8C1BB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AA21B-16E4-47A2-8E1F-9ADDE74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6DD64-FC49-4C87-99BE-60BED131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06F6E-1C7A-4B13-9A61-A4A73B22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5B7-A5EB-45F8-B2B0-859300BF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6B7A2-5758-47AC-BB3A-F833E1B6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75ED0-6328-4869-B4FB-37ED438F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A6B68-424A-4196-AB20-954A2032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A3798-DF76-47A4-A77A-C25F41EE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EAB3D-BD13-4952-99BA-6DF13E09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695AC-AECC-4B68-AECD-CC0615E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E51D6-AF54-4C48-A521-DD779557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35B8-CFD3-4EC7-A7A9-3D4E422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02229-F356-4281-875C-34C8922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49FC9-B472-4A94-8355-4126A338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4166-6FA3-40DF-AA7D-9AE81DBE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57658-390D-4909-8834-8700405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B0B75-7C32-4113-8B33-B752CA33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EEF79-DBCF-4027-B018-024119FA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A201C-7B79-45A1-AA33-4253AEB0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466A4-2863-4734-B308-5AEE441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F281E-486B-4F92-B737-2D22F99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1B66-7645-4890-BC64-49668AA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A3A95-552C-4E69-A1C9-DA372C1E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5C86-33C4-4D38-BF90-DE51DFC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A65F8-86FD-4027-A6A2-1FDECA0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317A-5A8C-45C6-8791-88C4F968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822D9-6F3E-4092-A236-07C92B5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3B5EA-CCFA-4EFF-95DD-1D7AD80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1E7CC-4A11-495F-B55A-D55CF98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CA9B-9D9C-4184-BF91-1BA98913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CA829-9305-4C66-8DA1-BCD56CDE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C7A48-037D-465D-B559-C9036386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BA21B-CAB3-46A9-A849-FC21DE9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705AC-FB93-4825-BD1D-B2445972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91C9A-E88E-4D11-9813-36823A0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79F3B-A771-43DE-828B-B8122E2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84A7-6547-41D3-A4EF-724C854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134DF-6049-4E5C-BDC8-A57BE42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E1D73-00E9-40BB-B2B6-029ED81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D3424-3BB9-4E84-9B99-1D8BA9B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726F7-9C74-41A6-8F55-88D112B3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6609D-F6F8-4B0D-AD7A-085009FE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6B777-738F-4556-BBC9-B17EE55B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1F014-5C54-4A38-BBA6-F1A12A29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64D67-AC0C-41CB-BA6E-0348B61E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22812-63BE-4239-811E-A9609AE6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09F30-898F-4145-B0F2-FB443C9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E056-4A53-4369-BA8C-CCEB13F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4A9EE-B2AD-48EF-A98D-ECC2A589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DE1BE-B647-42C6-BB86-9E5228F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B7950-14A5-40DF-9D9D-726AFCBF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42793-589E-4115-A057-37E9346F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A83F3-2050-47BE-AFFC-3F5A2CB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52238-EE0B-4A59-AC6C-B17C56C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FAC5B-92A6-4068-AE02-B66ABE4C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95841-5667-4734-9B1E-CBE0E6B5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1B4B0-EE43-4AB0-805C-DD73F78A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5B968-4AE8-4448-864A-D11FA9E1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C64-7AC9-4548-8CDC-C5B48F65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DB01B-C012-41B1-969A-61A6655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70081-88FA-438E-A74F-A7083CF5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A5FD8-6DB6-4159-851F-155CE226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EEBB9-BB7F-4473-8BDB-EA2DC815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02771-FF8C-4CA4-9B6C-4ACE2C70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5D90B-DA70-4DDF-B1D4-3999C7A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97CB8-6470-4CB8-85E9-B284889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9FB3C-FCEF-46E1-B7C5-38264FC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85F57-3AEF-47D1-B06D-03E9047B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89D91-2C1D-44C2-ABB3-C01EE4A7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337B-13EE-4FB9-BB95-B16CA689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44B4B-DDD2-41D7-BE42-B468B03B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B8B1B-EF15-4E16-9EC7-B28526AF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4F549-3152-456C-9A46-99C61E9A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73034-E2ED-48F9-A733-A6F1781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34D8E-C155-4F4D-8959-FEC667B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09D9F-2616-4484-AC1F-D663F545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28047-C535-4D50-8C16-131EA95A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B9E5D-7F01-4D6E-99EB-68048BE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CB62A-1F10-4DB7-9D19-9AF7FCF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613DC-B83F-4C9E-A835-9184B81E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E4F-03B5-44CB-8446-6AEEC03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2FFE7-757F-49BF-99EA-FA578EA6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5CA73-A883-4188-80C0-44F2AB22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1506C-CFFB-4874-B98B-86CC5564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99128-494C-4DF4-B84E-15BC00E9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885B7-27BF-4962-99BF-9B22C78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A73C8-D793-43E2-975A-61C49D03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10B22-D31B-455C-8095-38F73440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C822B-1C56-4AF3-BAF8-B8011EE2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BD007-31D9-4EE7-AEC0-A721373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279A1-4BEE-46F3-A33D-CB6CB3B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122-7827-4D72-8997-7F81A17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014A-4FD3-4F35-91B5-CF8B6D8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7230D-D19B-4936-909B-0123F11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8D0D6-67B3-422A-B711-D2A5FE8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913AF-45E0-497C-B252-D6AC328B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0EBEB-AE36-499B-B77A-0B227490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C0ECE8-1204-417B-84BA-3ECFDD47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4B021-7B17-469E-857F-AF0E48A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F0AEB-9E59-4677-AB60-6BF3A024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B3291-24C6-4327-B671-531E8112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806DB-6B96-4E2E-BE7F-57C1BE9A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9465E-E378-42BC-BCA5-26527EA4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3D4F-16F2-42B2-85C6-12AAC2D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D0B50-64CC-42F2-B6C8-965A7B70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CDBAE-D6A3-40F5-9FC5-72EB006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07483-C886-44FB-A0F8-BA4D202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22E16-82C2-4209-BA92-19680AE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3BD2E-CB62-4FF7-8F0E-FC9EF44E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E3A8F-0880-4CCC-A5A4-22DAF6FB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FD229A-AEE8-48C8-922B-455113D3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1BD41-117F-4C95-81BC-EDC51A7D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9472F-EEF1-4F54-9B2E-6AA03C37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7EA0B-F210-4E46-97E5-7106E2F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AD53-AB70-4C9D-B5E8-9A812FE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79EAF-E2DC-4BAF-AA5F-315085EC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EEA0C-65D7-4300-B672-708745D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AB3DCA-D8A6-4D95-A20A-9E0C2FFD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251E5-A73C-43CA-BCF0-BD0DDAA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46021-3441-43C2-9AC2-DA366531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F239AA-D5A3-4573-8E8F-1820B95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74EE9-CEE4-481D-BB87-3C2C9B08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030DE-369E-400C-B586-8E96CE31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41E48-3223-4B79-B076-61D0435F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C5EBA-3D13-4680-B919-D7BA99FF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DAD8-08A4-4791-941E-24783F1B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E19F5-2B17-47FC-AF29-92E0DF95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72335-ABB4-4421-BD4B-99BC2588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4A620-4C2B-4ACE-824A-FFD89334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C11A1-D228-4909-97BA-C3CCF4C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0274C-A589-49E5-8606-1A9C2E8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C10FD-1EBB-4DC8-8107-4B179A5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0D9FA-C4D6-4389-B88A-1AB594F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7D027-B909-4FFF-BD07-0CB820D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43989-01C1-4DFC-9FFC-1371BD6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6FE62-C93F-4CC3-927D-9F7A2480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7FB1-5B3D-4553-85DF-F9945391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7A7A3-62D4-4FA1-B13E-F2A0165B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2E864-8E5E-4328-B3FF-16A69A41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567E0-FC95-4556-A991-93553A8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1DA0F-0A0C-45BF-AF24-2CA049BA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0FC26-138D-457A-8738-7E509A3F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4500C-E751-431C-99DB-717197C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7DFAA-A5E7-4163-8AD6-AF9F7344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92B5D-A226-4D42-96C4-26BE3EE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EBF1E-2021-472D-B566-6074458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72CC5C-BDB2-452A-BDE4-906B9791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7F5E-B052-4B3D-9772-1CA15308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35E90-5DBB-4434-B90A-4F0E92D0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AC263-8606-4C33-9BC0-5D8C3F19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89C32-2050-411E-907E-55FB4C60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37F60-119C-4206-88EF-3288214E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C6F9A-30F9-42AC-9ED9-0088B282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DEAAED-3051-4CAC-A69E-BB7B63F1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E1B835-187C-4449-9253-86707104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1FBBD-4974-473B-B766-E3A56F7A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03EA3-87A9-46B6-834E-E687A439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C6F126-D0DC-49AE-B977-42F6E11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9DFD-D741-4360-982E-7FDF659B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90BB0-2F13-4339-B18B-46E433E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24C47-B9D6-47EF-B203-F6E03F1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D2690-3540-4A92-8FF6-6BA8A3B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882C0-0BC3-495E-9A42-50631042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B603D-F408-465B-98E0-15A426D3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130886-5BB8-4C66-A153-5DA9A0D3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D4B058-6777-437F-8DB1-BB20AF9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726CA-823B-4CC4-8657-49EE1CB3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E8410-91B3-417A-A481-BFB0A85E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6990B2-2AC1-407F-9293-D16AB86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41F7-C315-4399-A4DC-390EC92E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985D0-7E85-4DA7-9F41-31BE0778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85860-1AB5-4A54-A7CB-A81D1C8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EA6C5C-4B4D-417E-BD3E-FD0917F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8A4F7A-C9EF-4971-8E07-BFEE1D1F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AE7352-9B82-471B-98EF-FC98568B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040AE-A37F-4163-A05C-F50C2E96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1B10D5-D372-4D0C-942F-FC0B9265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B1C25-4752-41C3-AF17-23AE3EAA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6684A9-EAC7-42B0-895F-4B68213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2E16BD-80A1-4580-BD05-B8345D5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CE7B-DF27-4FF0-8595-56DE054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4B7E00-34BD-4E93-A3D4-242972A8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4A5CD8-6F0F-4361-B378-97FE36D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AE884-E838-4540-BDF1-2222F7DA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DCF22F-1F39-4862-B7E3-604F85B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2C02AF-CF99-4F9A-9880-AC66074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87321A-A941-4A13-8267-F659228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92784-7EAA-4E24-922A-107D9C4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DF8D5-881D-4459-950B-309E6D4C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7B2436-C5CE-4B91-B946-C7BB8D74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9C1F43-6273-4509-BDC3-63DE6F23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B6B5-EDB2-4588-A6D7-14A1FE70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8DBAE8-DF5F-4311-9753-A2F35278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873F47-A897-4B81-95E3-8BA324F3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683B9E-8298-4B6B-9979-4F6A4BBA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D28E2A-1261-4C87-886C-16968B0B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868E0C-2871-48FC-8128-9695D280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520A76-BD7F-49C0-A9D9-E96F354D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C1EB27-4302-4E6B-A3B2-023E5EB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21CF3B-2ACD-4281-A339-109977D4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C098B2-61E4-4351-BF6E-00B65925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25AE5E-3EE5-4C45-B393-D4C07EA9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F70-9534-407F-B499-510673F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969C-0324-40A6-ABE4-74619141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CC12EF-1084-40B2-896C-33A6170A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54D030-F059-4E95-AC14-F6E32DA7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E3CFBE-B202-426B-9764-36ECC11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B3A133-26A6-4CED-A324-807DBA1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5D28FB-42AB-4A39-AC29-217ADE5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9ADFDB-3107-4906-9B4B-0D99266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E4D751-C688-46C3-BDF6-6D0A5AE0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259034-635F-4903-9423-4E8A94C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73FB5A-C65A-462A-B774-0235E79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210ABF-42AA-4CE0-93D3-7BCF27A4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B320-3C75-4466-AD16-DF6B1064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C38A6-8A04-4300-A6ED-9AF22336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51DB0A-A702-4DE1-9A95-8BAAC9D9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7F5046-190D-403F-B3F1-C9EB9F6F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5D9ACE-C6A9-4896-B501-5DFB74E9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838056-9087-4A6D-84C0-0C64C769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30594E-594B-45FD-85B7-0053E7F1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A4FEA1-668B-46D5-B4AC-9CD78AE0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F05279-6529-49C5-8C3C-B66A36FE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41A2EE-4820-4577-8F5F-69F08C5D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E0C55E-6A9A-429A-84BC-34729DE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030F-ABC9-404D-9EC8-601DD90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455BEB-3915-41FE-A528-CC0A5D7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14F6AD-7123-4CA0-BEDA-5964EC5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747D57-822D-4E75-80DF-E595DBB4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8C300-BCE1-4433-980B-44670C30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9BD3F7-F802-4784-97F1-E65A81E7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6F8E4B-C186-43CF-8A6E-D8D8EEF0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749D04-633F-4522-BFF3-6C8CBE7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9DFA7C-3DCC-419E-9002-2997171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19F3CE-D77D-44F7-85E7-6DC6AC7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B7109A-F1A8-42F8-A91D-FDC0E66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95F6-011F-4532-99CD-9340A55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FE206-3491-4D1D-AFEE-203A9CB7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845E81-4404-4A4F-9811-06ABBEE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39A732-093D-4F12-A107-7026614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682F6C-55C1-49A9-AE84-30489594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DB8C96-F9EB-4FE3-BDD6-4439AA32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90152C-C15C-48F8-9C0D-4AFE917E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59ADB6-C3BF-48EC-AD72-70470877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B2A3D-B397-4810-899E-98AFAEEC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BA8211-75E4-4833-BF03-C1AF6F2A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102600-9CB6-45E5-ACFC-D727C1A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7C8F-068B-464D-9E53-0C5059B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9B3AB1-E8BA-4674-BB0C-9ACD849D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F9B967-EFD3-405E-AAC1-569B2DF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1077DD-90E6-4275-8C98-DD0F7229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51D88F-E422-47A5-8B90-981307B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A04D3E-5819-4C15-8CC9-739BF01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46EE7C-677F-4AE2-BED9-B5F9A078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59C6E6-C9C7-404C-BF23-13C4A3B7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D2C6F-67D7-4348-AAA2-308377A1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B64AF2-6EBA-4C93-9270-D4B3A129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836B5D-49B7-4627-9A19-9ED3E781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CB85-DFEE-419C-BB35-859D50A3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516CCC-1230-4CA8-AF21-4C511E9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BC6C30-DDAF-4F87-9FC0-2A8C20E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D56EA7-8B4B-4F24-BC50-BE34AD9A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C0833B-0A81-4D64-8324-36C99BC0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7E6B30-3246-4AE2-8524-8CF30B3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9E23DD-5CFA-4C1B-A848-080A36A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C0542F-D208-473B-8144-B63B2CA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AE6CA0-8B83-4F29-8671-B07EA37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6269E5-AE95-4AC7-BB63-EA5F252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C780D8-963B-404D-BBA1-4627AA41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0A36-BA43-4E4B-927D-C2527FF8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99852E-94CD-41B4-9ADF-A682DEC3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FAFE4D-442F-42BD-AE22-49F1C979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6A2EAF-6428-4CF2-9F9B-26C062F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2394BA-3D5E-4528-A37E-4F05A51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F5F014-52BE-41A0-95E4-95973D0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97E98C-5840-495F-912E-6AD20FF1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A12CCA-B992-4DCF-8E6D-F3346CFB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302681-DAFE-47B8-8E42-CBD04BE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1FB6EF-565C-4F0D-8BEE-044BE0B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E96D4A-53A0-4262-843A-BD05F5E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94A5-D4DD-4DE7-A56D-D3C10CD6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F40C63-705C-41DD-B072-025C395C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833328-EA28-48A2-8F3C-6717FB4F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67222B-A42F-4FB7-95EF-5F8B6986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94FF-D311-444C-A2C2-7068A33B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52B5-C68C-43F0-92F1-BDD7FB74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898-285A-4A2C-8D68-ADDC24BD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AEAE-95C9-4171-B5A5-11E495B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5FFC-A759-446D-854A-EFCA54F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129E-C45C-4546-9964-4D6FA20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1669-2E17-49EA-ACD8-C247064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8CD4-BA69-4B78-97DC-B6F1D14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ED85-4A88-4934-9F16-DCFE89E3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C13B-0B38-41C1-914D-24394D4B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82DE-710F-43E5-BC6F-8017AA0C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095A-D02D-4887-B017-E6C7702C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F004-2CCE-45A9-9F6B-F77E7F98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997-DEFE-4356-8F1D-EB3B28E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C96B7-EA63-4EE7-8FD6-2F3BFA4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44EC4-4272-401C-AC7D-4FDBEA59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29F5-8884-4790-97F8-A428CFD3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3A205-5E1E-4398-82D8-8F94DD6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4950-85DA-4A0E-8836-BDDEF58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F5C0-CE66-40B0-B377-2991638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3D529-5686-4230-B624-81F9C74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8DB60-40E6-4FB6-AF44-1D1EA8D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2FA2-1003-4E43-B77F-999800A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1460-9A40-4315-8423-E4C68C9C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55E-16FF-442C-9E2B-A370AB88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719F9-9B79-4AAD-A1C3-2A5972CA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9B28-3C5B-4CAC-9D59-09DA7EAD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6CA4-8177-47D4-86B6-1F5AD7C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8B395-6CC2-462D-AB14-454E5597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94E2-76CF-471F-B447-EB7C87C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7EDE-907A-4904-9D9C-0F2AD0AB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1A3E-CA81-4E19-B108-092D735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F398-37AF-453A-84EB-1E08D40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066F4-7C14-4E75-B930-9EDECFE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8BC3-4F40-42F4-8C0E-501DC39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F96-D30B-460B-97F6-57A9FA0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7F22-FFBF-424A-8BDB-286C54DD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A9EE-4C55-4B2C-ACAF-F25277C5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8AD2-123E-4BB3-88B4-83F3F528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AF108-902E-41DC-B58D-DA2AE566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2B5E9-6729-4CB5-ADE0-2F65600E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871B-CDAA-403A-9E9C-CC114C44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9057-DDAC-41D6-BD6E-56E0A4A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8152-CE56-470C-BF09-186AFE1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CD3F-D976-47C8-BAA2-BC94CCF9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6B14C-0F3D-4133-AAEA-7649272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A19-B60F-455F-8E5F-D63DB89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AC22-A2CD-487E-8D11-3882DCF3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706B-3942-4A12-9E10-8B5DAC5B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794CE-64E2-43E4-9ADB-8C6A07E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F94C-7558-4783-8C85-7AAC6708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2B59-5636-488A-8484-B30C3A3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E6256-3720-4F31-9399-F7BC60C2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54530-6850-4962-8BD3-C5D8F89F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AFAAF-D7FC-467C-A598-8179BC65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048E-5F73-4033-8BDE-B03AEDC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FD320-ECB7-48E4-B5D5-6E41552C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BCF-196B-4979-84B6-D376BA06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AE6D0-61C2-4151-A279-EDE429C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010D8-F59F-46D1-8C50-2D473DF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F0CF-F8D4-416B-9C46-CB916DA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20E39-794E-4145-9ABC-1F4147F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B788A-9691-4D87-93A5-9EE0C4F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EE739-80ED-4B2D-9AA7-5E4251BE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D2768-7C1C-4D31-B207-46D7C1CA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8826B-02CA-4561-BEEC-7551528B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D96E-D492-41EF-A4FF-A6C08550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4C91E-C7AF-47CB-B926-2B121EC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ACEC-F22B-4F0B-9E17-FD0DDBFD97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D4E-9B02-4B51-99D1-F59EE36529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B151-98F2-4112-B1A8-0A3EB5B447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576D-EB18-425D-A1CB-1E744F44D1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D954-245E-49E7-A6A6-C4B7C26CBD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11F8-9427-49D3-BEFC-D464BCA7D8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C3F5-C96D-4131-BAC6-9B497018B3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F42-1FDB-433A-AB58-82EA0A504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E4E0-9F3A-4D03-98B1-2010AA56E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0E23-2372-4852-8CEA-9086CF679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044-E7F0-4B28-BCE6-1777A7867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F67-82B2-4C32-9713-AFAFE1DAE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2BD3-A59D-4451-8593-517EA4846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32F-CF6A-48F3-8BC6-B58156CA8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C86-65C1-4FF9-A1DC-DE8652226E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F8C-9D11-414B-8C4D-A1671CE543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1BE-F1C9-49CD-93DB-A86E491A0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79E6-E7AD-4B8E-AC50-D5355DABA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B6DE-0850-4C2C-8842-1DC234BFF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7A91-687A-46B0-918F-4F7337A7A1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BD3-F6A3-40EA-926C-5C0AADE46D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FB8-F658-435F-8B14-1BA9B7052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B583-E8F8-45E6-8408-54884FC89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B1C2-8F7B-4363-86FC-AA60D089E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60C5-8943-4D5D-A9BF-8EEEEA44C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46DC-EB7E-4BA6-BF5D-82DE48728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17F3-BEAB-47A2-BECC-E6A84994E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DE51-298B-40FB-9633-DB0EF9D2E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F2C4-D8D0-457B-9ABC-EEFBFB014F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ECA-FF4D-419E-9A57-F7B05860C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3E8-1E57-46B4-9F71-0968260CB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0D4-2FFF-4752-8922-6F47846816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529-7E95-4840-A564-8C70E4AEE3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4AE0-7D2F-4B3A-8050-DE5C90B6E1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993E-E647-4230-91F1-3C0456CAE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54E-7574-48CD-9043-84EEDA32D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0272-C59B-4F7D-A97A-5D263AC5F7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CE4-2C1F-4425-9C68-EF7A85308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F3B-E274-4EBD-84D9-92519A57C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4F7D-305F-4387-974D-88E15E83A8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5F2-986A-463E-BD65-5E37E20E3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A07-D00A-441D-ACC5-556A89187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6A3D-186D-40E2-81AF-DC1D0B101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6B6A-97A4-47D7-94F4-B7C141109F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2CDB-595A-48BE-B1A6-AA360A16D1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2772-9518-489D-82FF-9773909D21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E0FA-E28C-4CC2-BA97-005B9CF160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DEC-7592-408C-A1EE-B4AEBA701B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E452-AF58-44A2-B34A-64E2DAA37C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4A8A-F039-4715-8188-8C02058A0F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081080" y="1096920"/>
            <a:ext cx="6905520" cy="13622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306440" y="2817720"/>
            <a:ext cx="6429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图片 140289" descr=""/>
          <p:cNvPicPr/>
          <p:nvPr/>
        </p:nvPicPr>
        <p:blipFill>
          <a:blip r:embed="rId1"/>
          <a:stretch/>
        </p:blipFill>
        <p:spPr>
          <a:xfrm>
            <a:off x="382680" y="939960"/>
            <a:ext cx="7286400" cy="38862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140290"/>
          <p:cNvSpPr/>
          <p:nvPr/>
        </p:nvSpPr>
        <p:spPr>
          <a:xfrm>
            <a:off x="749160" y="2127240"/>
            <a:ext cx="50054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140291"/>
          <p:cNvSpPr/>
          <p:nvPr/>
        </p:nvSpPr>
        <p:spPr>
          <a:xfrm>
            <a:off x="944640" y="2712960"/>
            <a:ext cx="50054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2"/>
          <p:cNvSpPr/>
          <p:nvPr/>
        </p:nvSpPr>
        <p:spPr>
          <a:xfrm>
            <a:off x="739800" y="3246480"/>
            <a:ext cx="5848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3"/>
          <p:cNvSpPr/>
          <p:nvPr/>
        </p:nvSpPr>
        <p:spPr>
          <a:xfrm>
            <a:off x="698400" y="3852720"/>
            <a:ext cx="58485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4"/>
          <p:cNvSpPr/>
          <p:nvPr/>
        </p:nvSpPr>
        <p:spPr>
          <a:xfrm>
            <a:off x="719280" y="4468680"/>
            <a:ext cx="58482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图片 139265" descr=""/>
          <p:cNvPicPr/>
          <p:nvPr/>
        </p:nvPicPr>
        <p:blipFill>
          <a:blip r:embed="rId1"/>
          <a:stretch/>
        </p:blipFill>
        <p:spPr>
          <a:xfrm>
            <a:off x="314280" y="838080"/>
            <a:ext cx="8058240" cy="563904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39266"/>
          <p:cNvSpPr/>
          <p:nvPr/>
        </p:nvSpPr>
        <p:spPr>
          <a:xfrm>
            <a:off x="666720" y="2025720"/>
            <a:ext cx="7562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39267"/>
          <p:cNvSpPr/>
          <p:nvPr/>
        </p:nvSpPr>
        <p:spPr>
          <a:xfrm>
            <a:off x="512640" y="2560680"/>
            <a:ext cx="7562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39268"/>
          <p:cNvSpPr/>
          <p:nvPr/>
        </p:nvSpPr>
        <p:spPr>
          <a:xfrm>
            <a:off x="501480" y="3218040"/>
            <a:ext cx="7562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9"/>
          <p:cNvSpPr/>
          <p:nvPr/>
        </p:nvSpPr>
        <p:spPr>
          <a:xfrm>
            <a:off x="533520" y="3762360"/>
            <a:ext cx="75628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70"/>
          <p:cNvSpPr/>
          <p:nvPr/>
        </p:nvSpPr>
        <p:spPr>
          <a:xfrm>
            <a:off x="503280" y="4379760"/>
            <a:ext cx="75628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71"/>
          <p:cNvSpPr/>
          <p:nvPr/>
        </p:nvSpPr>
        <p:spPr>
          <a:xfrm>
            <a:off x="555480" y="4892760"/>
            <a:ext cx="7562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72"/>
          <p:cNvSpPr/>
          <p:nvPr/>
        </p:nvSpPr>
        <p:spPr>
          <a:xfrm>
            <a:off x="555480" y="5530680"/>
            <a:ext cx="75628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73"/>
          <p:cNvSpPr/>
          <p:nvPr/>
        </p:nvSpPr>
        <p:spPr>
          <a:xfrm>
            <a:off x="596880" y="6064200"/>
            <a:ext cx="75628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图片 138241" descr=""/>
          <p:cNvPicPr/>
          <p:nvPr/>
        </p:nvPicPr>
        <p:blipFill>
          <a:blip r:embed="rId1"/>
          <a:stretch/>
        </p:blipFill>
        <p:spPr>
          <a:xfrm>
            <a:off x="324000" y="949320"/>
            <a:ext cx="7886520" cy="3409920"/>
          </a:xfrm>
          <a:prstGeom prst="rect">
            <a:avLst/>
          </a:prstGeom>
          <a:ln w="0">
            <a:noFill/>
          </a:ln>
        </p:spPr>
      </p:pic>
      <p:sp>
        <p:nvSpPr>
          <p:cNvPr id="1349" name="矩形 138242"/>
          <p:cNvSpPr/>
          <p:nvPr/>
        </p:nvSpPr>
        <p:spPr>
          <a:xfrm>
            <a:off x="627120" y="2743200"/>
            <a:ext cx="78706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3"/>
          <p:cNvSpPr/>
          <p:nvPr/>
        </p:nvSpPr>
        <p:spPr>
          <a:xfrm>
            <a:off x="606600" y="3317760"/>
            <a:ext cx="78706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4"/>
          <p:cNvSpPr/>
          <p:nvPr/>
        </p:nvSpPr>
        <p:spPr>
          <a:xfrm>
            <a:off x="595440" y="3903840"/>
            <a:ext cx="787068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137217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7600" cy="440064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8"/>
          <p:cNvSpPr/>
          <p:nvPr/>
        </p:nvSpPr>
        <p:spPr>
          <a:xfrm>
            <a:off x="676440" y="2610000"/>
            <a:ext cx="29588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19"/>
          <p:cNvSpPr/>
          <p:nvPr/>
        </p:nvSpPr>
        <p:spPr>
          <a:xfrm>
            <a:off x="533520" y="3195720"/>
            <a:ext cx="8157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7220"/>
          <p:cNvSpPr/>
          <p:nvPr/>
        </p:nvSpPr>
        <p:spPr>
          <a:xfrm>
            <a:off x="450720" y="3751200"/>
            <a:ext cx="815832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7221"/>
          <p:cNvSpPr/>
          <p:nvPr/>
        </p:nvSpPr>
        <p:spPr>
          <a:xfrm>
            <a:off x="441360" y="4367160"/>
            <a:ext cx="8157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22"/>
          <p:cNvSpPr/>
          <p:nvPr/>
        </p:nvSpPr>
        <p:spPr>
          <a:xfrm>
            <a:off x="441360" y="4900680"/>
            <a:ext cx="8157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619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724880" cy="515304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6194"/>
          <p:cNvSpPr/>
          <p:nvPr/>
        </p:nvSpPr>
        <p:spPr>
          <a:xfrm>
            <a:off x="2835360" y="1716120"/>
            <a:ext cx="257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6195"/>
          <p:cNvSpPr/>
          <p:nvPr/>
        </p:nvSpPr>
        <p:spPr>
          <a:xfrm>
            <a:off x="4591080" y="1736640"/>
            <a:ext cx="257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6196"/>
          <p:cNvSpPr/>
          <p:nvPr/>
        </p:nvSpPr>
        <p:spPr>
          <a:xfrm>
            <a:off x="5608800" y="1695600"/>
            <a:ext cx="257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6197"/>
          <p:cNvSpPr/>
          <p:nvPr/>
        </p:nvSpPr>
        <p:spPr>
          <a:xfrm>
            <a:off x="811080" y="3289320"/>
            <a:ext cx="27752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6198"/>
          <p:cNvSpPr/>
          <p:nvPr/>
        </p:nvSpPr>
        <p:spPr>
          <a:xfrm>
            <a:off x="739800" y="3844800"/>
            <a:ext cx="6156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6199"/>
          <p:cNvSpPr/>
          <p:nvPr/>
        </p:nvSpPr>
        <p:spPr>
          <a:xfrm>
            <a:off x="750960" y="4481640"/>
            <a:ext cx="615636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6200"/>
          <p:cNvSpPr/>
          <p:nvPr/>
        </p:nvSpPr>
        <p:spPr>
          <a:xfrm>
            <a:off x="955800" y="5045040"/>
            <a:ext cx="6156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6201"/>
          <p:cNvSpPr/>
          <p:nvPr/>
        </p:nvSpPr>
        <p:spPr>
          <a:xfrm>
            <a:off x="1017720" y="5662440"/>
            <a:ext cx="61563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5169" descr=""/>
          <p:cNvPicPr/>
          <p:nvPr/>
        </p:nvPicPr>
        <p:blipFill>
          <a:blip r:embed="rId1"/>
          <a:stretch/>
        </p:blipFill>
        <p:spPr>
          <a:xfrm>
            <a:off x="378000" y="642960"/>
            <a:ext cx="7981920" cy="618156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5170"/>
          <p:cNvSpPr/>
          <p:nvPr/>
        </p:nvSpPr>
        <p:spPr>
          <a:xfrm>
            <a:off x="647640" y="2970360"/>
            <a:ext cx="752148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5171"/>
          <p:cNvSpPr/>
          <p:nvPr/>
        </p:nvSpPr>
        <p:spPr>
          <a:xfrm>
            <a:off x="689040" y="3544920"/>
            <a:ext cx="75214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2"/>
          <p:cNvSpPr/>
          <p:nvPr/>
        </p:nvSpPr>
        <p:spPr>
          <a:xfrm>
            <a:off x="720720" y="4130640"/>
            <a:ext cx="75214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3"/>
          <p:cNvSpPr/>
          <p:nvPr/>
        </p:nvSpPr>
        <p:spPr>
          <a:xfrm>
            <a:off x="762120" y="4788000"/>
            <a:ext cx="75214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4"/>
          <p:cNvSpPr/>
          <p:nvPr/>
        </p:nvSpPr>
        <p:spPr>
          <a:xfrm>
            <a:off x="698400" y="5300640"/>
            <a:ext cx="75218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5"/>
          <p:cNvSpPr/>
          <p:nvPr/>
        </p:nvSpPr>
        <p:spPr>
          <a:xfrm>
            <a:off x="698400" y="5845320"/>
            <a:ext cx="752184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6"/>
          <p:cNvSpPr/>
          <p:nvPr/>
        </p:nvSpPr>
        <p:spPr>
          <a:xfrm>
            <a:off x="677880" y="6410160"/>
            <a:ext cx="752148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4145" descr=""/>
          <p:cNvPicPr/>
          <p:nvPr/>
        </p:nvPicPr>
        <p:blipFill>
          <a:blip r:embed="rId1"/>
          <a:stretch/>
        </p:blipFill>
        <p:spPr>
          <a:xfrm>
            <a:off x="347760" y="725400"/>
            <a:ext cx="8067600" cy="606744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4146"/>
          <p:cNvSpPr/>
          <p:nvPr/>
        </p:nvSpPr>
        <p:spPr>
          <a:xfrm>
            <a:off x="647640" y="4079880"/>
            <a:ext cx="79120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4147"/>
          <p:cNvSpPr/>
          <p:nvPr/>
        </p:nvSpPr>
        <p:spPr>
          <a:xfrm>
            <a:off x="627120" y="4654440"/>
            <a:ext cx="79120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8"/>
          <p:cNvSpPr/>
          <p:nvPr/>
        </p:nvSpPr>
        <p:spPr>
          <a:xfrm>
            <a:off x="647640" y="5229360"/>
            <a:ext cx="791208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4149"/>
          <p:cNvSpPr/>
          <p:nvPr/>
        </p:nvSpPr>
        <p:spPr>
          <a:xfrm>
            <a:off x="668160" y="5867280"/>
            <a:ext cx="791244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4150"/>
          <p:cNvSpPr/>
          <p:nvPr/>
        </p:nvSpPr>
        <p:spPr>
          <a:xfrm>
            <a:off x="750960" y="6432480"/>
            <a:ext cx="79120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3121" descr=""/>
          <p:cNvPicPr/>
          <p:nvPr/>
        </p:nvPicPr>
        <p:blipFill>
          <a:blip r:embed="rId1"/>
          <a:stretch/>
        </p:blipFill>
        <p:spPr>
          <a:xfrm>
            <a:off x="743040" y="907920"/>
            <a:ext cx="7353360" cy="102888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3122"/>
          <p:cNvSpPr/>
          <p:nvPr/>
        </p:nvSpPr>
        <p:spPr>
          <a:xfrm>
            <a:off x="841320" y="923760"/>
            <a:ext cx="7500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3"/>
          <p:cNvSpPr/>
          <p:nvPr/>
        </p:nvSpPr>
        <p:spPr>
          <a:xfrm>
            <a:off x="747720" y="1479600"/>
            <a:ext cx="750096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53:07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